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ABECE-5950-4AF3-BCAF-DE0099242D3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6AF04-6B1E-4037-8449-D8445175B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74046-BB88-4A03-BB47-E54F06E55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8B2DC-B856-420B-99A8-70C30DA4B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191F2-91CE-4710-A30E-15B773EE6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067AF-35A5-4C5A-9224-861BF93FB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E9E02-6917-4811-AF6C-3F129FE89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60649-A656-46E0-8CDA-74DEBFCF0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449342-7E5B-4799-8F95-65527D075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85680" y="741240"/>
            <a:ext cx="4886640" cy="3665520"/>
          </a:xfrm>
          <a:prstGeom prst="rect">
            <a:avLst/>
          </a:prstGeom>
          <a:ln w="0">
            <a:noFill/>
          </a:ln>
        </p:spPr>
      </p:sp>
      <p:sp>
        <p:nvSpPr>
          <p:cNvPr id="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EC419-B83F-4F90-97FD-8A06D38E5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6E93A4-678E-4D36-AE8B-39372520A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85680" y="741240"/>
            <a:ext cx="4886640" cy="3665520"/>
          </a:xfrm>
          <a:prstGeom prst="rect">
            <a:avLst/>
          </a:prstGeom>
          <a:ln w="0">
            <a:noFill/>
          </a:ln>
        </p:spPr>
      </p:sp>
      <p:sp>
        <p:nvSpPr>
          <p:cNvPr id="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865D22-787A-44F3-A539-F7D02FA81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9A12C-76A0-4E10-8A05-54140FAB4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F7AA6-F412-47B0-B8FB-D8842665B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85680" y="741240"/>
            <a:ext cx="4886640" cy="3665520"/>
          </a:xfrm>
          <a:prstGeom prst="rect">
            <a:avLst/>
          </a:prstGeom>
          <a:ln w="0">
            <a:noFill/>
          </a:ln>
        </p:spPr>
      </p:sp>
      <p:sp>
        <p:nvSpPr>
          <p:cNvPr id="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04261-6022-4A98-98AE-444F3099E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B4361-D403-45A8-894F-911C6FC94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ACF74-A581-4386-B2D2-291D1FDAB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60F85-403E-4C92-88F8-4C27208F9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68F2DF-6127-4291-823A-920A43F1F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3CD6D-2EB5-49BF-B6D9-138482043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34B6E-9263-4C23-B11A-40A696A96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A603A1-03FE-499F-87D1-5086F2C7B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BF83E-D179-43EC-B8F4-135E920BB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DC033-ADC6-4D67-BFB2-684F87D27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FCBCD-2C0C-4D01-BF51-F9AE6AE0D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63A66-5580-40F1-AF59-79194C32D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0CBA3F-2586-4DF9-87EA-FF9CD0826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01E8F-9BA0-4FF4-8594-B5B571930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E5A10-82F4-4E04-A165-307A1DDB38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4BA1F7F-A5BA-476B-9A18-14C71CDAAEF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BBC412B-BEA7-4E1C-BF80-75F2CB6A81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B801A5B-6BD2-4DA8-930C-F667FEA1F0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2FE047A6-D469-4BB5-AEC9-833379EBA93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08FC378-CB35-44BB-95DC-C7692CB0BB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B88DD31-746A-40DF-87A5-FBABA8B647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DA8B471-AB36-47B5-9232-F7920A55D9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687C40A-B51A-44EE-957A-5EBDB6004F9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8A39E6C4-9BCC-4CD0-94B4-5F23CBC621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67EE213-8561-407F-B6AF-6EA9F5584C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62C5FDF-32D5-45F0-88FE-E3D1350200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E0BFAE5-6759-4A3F-AFF1-D7C8CFFD29D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5EEE796-F3AC-4CB9-8450-422C40D897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5C8F724-56A5-4505-ADDD-4204471260D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BD20CD6-2EF6-4816-8558-4BDC568833C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7FFBAD96-2793-4F49-B84C-B23F4F74194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B7C9CDE-C357-4EEF-A3A4-D3697332324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A180107-FD0C-4FC0-990D-947AB9557F5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1360FA4-28F9-464F-B62D-6C146D3C4AB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9776C4A-1907-4982-8F73-1A92173794A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63907BA-F6A6-44D3-86CD-22E90E53D4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14E1EE2-F9A1-4012-B8D4-9C89ABD492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77BAD2B-1954-4471-AC31-2D9169000C1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C24DE18-1263-4107-B759-ED7B2C88931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2EE618F-0536-420A-B29E-5A6B6CA7659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1B05096-3D8B-4024-863C-9DEA50663A6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FEAFD83-49E2-470E-BBAB-483CECF3A57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3E09494-F64B-472A-91CC-ACFBB9C90AE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6932D37-3ABB-4B04-88E8-E645B75AA3D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8A6C7847-CA4C-4A99-B376-B02A950A2B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F2511F1-BD4E-43C5-B04F-A7DD6BB59F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BB8B305-579A-4070-BAB2-61046C90F8B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35E63D8-0B34-49A0-9A8B-54911E118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FCA33A-36BC-4666-A41D-DEEDE22F07F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864E1E8-B01F-46C4-B588-BAD4A93C66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D52389B6-FED6-4BA4-AB2D-9A8E7CB39E4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26F7C471-B5FF-4891-95D6-1EAFA79F74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4DBB795-8FA2-4876-A9BE-CC8AA260E55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BDEDBAF-C299-42C2-B957-0E14564E4F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1B9C464-AA0F-4612-98FF-75D8E5940EA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FFD612B-F0FE-4F28-8B74-58058E00E39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60BCBFA-12C7-40F1-841F-691D6835881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04F3C158-A8EE-4126-8095-91B925DE78A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3783E3D-795C-46DC-A062-7E0D94522E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499E82B-22E2-4657-A7C9-2DD3D674BC1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2FC5344-D113-4EAD-9FF2-D6067473B96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B3A888E-6618-41F1-B03C-41E23EE598D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314E469-43C1-41B7-A7A1-EBD9DD2E7AE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B8276C0-13BA-40BB-80AD-871EFA45160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DD2F6E4C-C41D-4BEF-8F41-5341210562D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D31701C-9288-4875-BE1F-F25DD985836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BCB394F-B84A-45B9-B106-FE528B17D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43B944F-24F0-43C2-A96C-C95331DEA2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BE46309-C2A9-4C9E-A320-6B936DD92C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F93B99D-EB83-45F6-A076-3D5F77AE3D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76AA8D2-7747-4DA0-AEDD-C28F3E63A5B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20ABD9D-387F-4BB2-89C5-8B47672D0C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1F61D07-6EAC-40C9-AF4C-F352C5D35C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6A33F3C-8FB5-4869-9948-BBB7B8281F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C7A2CC8-2BE5-44CC-A23C-3D4F42F75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1E17828-A204-4E79-A72B-04C29FB63F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C7E018DA-0A71-4172-9896-733300D9E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A12F3ADD-E222-470B-91DF-6318A53CD5E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31BF996-859A-403A-A5F8-DA92E437B3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2EE35EB-57CE-42FE-8B29-A379456F57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548FC09-A8E3-4E61-931F-AB035D6BC3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EDDF218-2160-43BF-A146-4597DEBA2F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93017CE-34D9-4142-BA30-37C6D3E3FD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96B879B-55CB-4F9F-8FFC-4A1995EDBD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FBCCD30-C79B-4463-A2EE-F1D0D6BB41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28894F4-D4D4-4AE7-9DEC-19FE536F12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D2397D8-671E-49DE-A054-6D2F994448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0879DB5-C526-4412-800E-93C4FA0139D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003B53-37D2-492F-95EB-0C6E8ADA3C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481996-D629-497A-8F76-2C72847F86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AF6206-BE61-4AE9-9BCC-6D49C571FF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2000250-7502-4FB0-B08C-DE8DEED930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67333A-6173-42AC-AD3D-D4E40DA932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8B117A6-0F37-49C2-9860-FDBF22E246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C6ECC1A-1B5A-4772-BEE8-0884596FDB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BFC16EC-A24E-46F6-941E-A5202B5E32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EFF31A9-034F-48D4-A79B-FCE0A0CBBE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0D053C0-0D49-417C-8CC6-25C639C044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DF8F7D6-AB6E-4B43-8C3C-31C4E576CC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33BD42F-8FFA-407C-9CAA-8F11F0BD28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CEC935A-DBF3-4CA8-91EE-316C9CEC3C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D79575-C003-4D0C-9580-543A6315216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59E6E7A-9569-4EDA-9BF0-601967BEB5A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E81775D-5ED1-4E43-8DB9-AE8A2481EE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AF2A4F9-E80C-4E29-B317-D58799E557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FCD70FF-B47A-4DC3-A197-A8CFFB41179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DACFFE3-FC61-4706-AEE8-97BA2CAED3F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7806F90-4786-4BFF-98D0-23B733971BC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533F0E0-2253-4610-BB1F-EFB3C2F1E1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836E219-7F71-4F94-A8C5-FE0270D16A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1EBACFF-3310-443A-BEF6-9767A3FF4E2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90C168B-F9B7-4C60-88E1-E016F8C0C5E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9672D746-AF99-4F88-BA5A-DBC7458FCF9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06A8313E-DD7A-448C-9DAF-AB717C025A4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A3E419-6B18-43FA-BB5C-EC7DA6FB1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7F76E3B-CC2F-4AA1-9911-A596C9FA649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4F836B7-00C6-49BA-8ADA-ED3295CA71F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173C42E-43F4-4698-AC5D-6833A13FE6E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24EB4E4-2103-4AF6-B563-B3F7C5573D0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2154EC7-AC8D-453E-8B2E-B3239C806AF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76EDE1F0-6380-403D-B4EB-5453DDD7F4A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DBBC82B-3385-4BD9-803C-5C680935533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ED3FA0C-F13A-449D-852D-D66450F45C8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E3A302F-5BE5-4B21-A2EF-0378487E0AC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547047A-4FA2-404A-B6A8-7F69C5E2233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17708A8-A36B-4AFE-9D71-57D908D6A0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6DF8DD3-FA51-41CB-913B-7396F78024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B79A34B-A374-4358-BEBD-4A205AC0529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7D58C2-CF49-4D78-A46C-7F81FD2DDA9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5C9277D-1295-438B-A439-0A59496AE1C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19FEE49-5916-4E36-8A3E-CD1E0423696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73E6435-C446-4F0B-80E4-49E23E0F38A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57C8320-C94B-4BAA-946C-71AD4A0BF68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1467D03-FDF3-4CF1-AAA9-4EF82E63122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4A410C2-4784-43BB-8BBF-B3B942ECB45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7FCDAA4-7B8C-4528-AC7B-FC369399E1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554CDBC-3FE5-4842-AD8B-FE4724ECE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1DF7163-8C8D-4D70-8D00-DFD55D6456C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77D16DE-6337-45CB-BE7E-F78E10195E5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698ECD0A-CD75-467F-BBD1-8F06F4D3F69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5A2B8928-A00F-4DA2-9801-8E9358A4DB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3D1B864-0356-44ED-BFA2-9F72F67EE09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CF8511F-3A3E-49D9-BD24-BD7B05F6E0F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EBE0F34-737E-42A4-86CA-CF114F84AB9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61EC541-D668-4C0D-8A91-6864FBC604B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8BA4536C-F74F-4917-888F-0A1DCACCDD8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0C27BF2B-8FD4-4136-8736-5285F5858DB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1A86F4B-D210-42C3-AE9D-2B21EF590C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566E161-524B-4A2F-A387-C3237E38888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1F21ABC-A6F0-4686-94FD-4A3F54B5D40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372147A-E89F-4663-9C2D-E1B91E4F1FF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A8CBA9B-266F-479A-8C8E-24359E0A1C6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2EF2375F-9583-4053-8701-D97F532BC2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EF4BCBA-2E43-47EF-85E6-B363DFC13C1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8571EBC-693D-4D2B-A232-6F10E58A4F0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159CD75-DBF4-4E66-A335-1ED222DEFD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88BE1E2-0393-491F-A373-A753C7B454F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8CBD88D-BE05-489F-8C3C-F6D6143F2C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30383C87-8B59-4F8D-ABD7-F3CF6AD1E8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01C2B9A-C286-4D70-97D6-61DA6070CAF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57512AF7-7717-4900-83C1-5E44F1C83C2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0B80353-7537-43F4-BAA7-1F0EC52888F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3626998-8450-43CE-9A69-937FEBB291E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A695DD1-9B3B-4D7D-A1BA-7F9048F7C42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93B463F-19B0-49B1-B879-D56D975184F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8935E39-C729-4B87-B014-7AC4037D2CB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2E652F77-CA1B-48C0-9A19-FFBC8B58520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C32F117-3640-4079-BA4B-7C435E5F438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8FF12B0-3F8F-4A4A-9DCA-B300DED599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4AC4B23-C28E-4D40-822C-63C242D4E8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F9543-0E30-46C2-9048-C4D9497C43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526D7-449A-43BA-B476-21F4384AD8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7A9F9-C823-47C6-9131-981DA9EDF8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C08934-730A-49BB-83DA-1101B9DBC0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BAC17-AF5A-48FE-804A-CE69D2CD810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F8BC0-C027-4182-A6BB-A7521D1C42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3CEFF-33BE-443B-A059-603FD53C8E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49940-8EAF-44E4-8543-0F42884110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3310F-F99B-400D-994F-0F615E2C8E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49C556-5D1F-47F0-98ED-31843C9B5A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BA1AC-5A48-4AAF-B9D3-9F5866CF01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5EEAB-25DE-441F-86C6-2E5013A846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8DA7A-D2AD-4A35-890C-49C773E679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68360" y="1125360"/>
            <a:ext cx="8496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24000" y="1052640"/>
            <a:ext cx="835164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93" name="" descr=""/>
          <p:cNvPicPr/>
          <p:nvPr/>
        </p:nvPicPr>
        <p:blipFill>
          <a:blip r:embed="rId1"/>
          <a:stretch/>
        </p:blipFill>
        <p:spPr>
          <a:xfrm>
            <a:off x="0" y="0"/>
            <a:ext cx="9144000" cy="1368360"/>
          </a:xfrm>
          <a:prstGeom prst="rect">
            <a:avLst/>
          </a:prstGeom>
          <a:ln w="0">
            <a:noFill/>
          </a:ln>
        </p:spPr>
      </p:pic>
      <p:pic>
        <p:nvPicPr>
          <p:cNvPr id="794" name="" descr=""/>
          <p:cNvPicPr/>
          <p:nvPr/>
        </p:nvPicPr>
        <p:blipFill>
          <a:blip r:embed="rId2"/>
          <a:stretch/>
        </p:blipFill>
        <p:spPr>
          <a:xfrm>
            <a:off x="1258920" y="2060640"/>
            <a:ext cx="1297080" cy="1528560"/>
          </a:xfrm>
          <a:prstGeom prst="rect">
            <a:avLst/>
          </a:prstGeom>
          <a:ln w="0">
            <a:noFill/>
          </a:ln>
        </p:spPr>
      </p:pic>
      <p:pic>
        <p:nvPicPr>
          <p:cNvPr id="795" name="" descr=""/>
          <p:cNvPicPr/>
          <p:nvPr/>
        </p:nvPicPr>
        <p:blipFill>
          <a:blip r:embed="rId3"/>
          <a:stretch/>
        </p:blipFill>
        <p:spPr>
          <a:xfrm>
            <a:off x="6948360" y="1989000"/>
            <a:ext cx="1444680" cy="1573200"/>
          </a:xfrm>
          <a:prstGeom prst="rect">
            <a:avLst/>
          </a:prstGeom>
          <a:ln w="0">
            <a:noFill/>
          </a:ln>
        </p:spPr>
      </p:pic>
      <p:sp>
        <p:nvSpPr>
          <p:cNvPr id="796"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797"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392120"/>
            <a:ext cx="806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137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4:15Z</dcterms:modified>
  <cp:revision>153</cp:revision>
  <dc:subject/>
  <dc:title>Παρουσίαση του PowerPoint</dc:title>
</cp:coreProperties>
</file>